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CC1-2837-4505-8A3B-50B67517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C4E-1AED-4E29-98EF-D65FB4D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943-806C-4B9E-B010-B87ECB0E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748-460A-491F-8610-32917FEB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CC1-7214-499D-9549-FD6FCEDA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8E5-2C24-4CE8-A982-F1E3D82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ECD-BB9F-418E-89FF-865F2078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96D-282D-49F9-BB1F-EA76BA3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604-2EDC-4C9E-9CC3-062DCDB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6E2-1E32-435C-8557-DC3397B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797-D85F-4E92-857F-CF00F12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B44-C03B-401A-AF76-70D2338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FB7-05D8-4A72-AD01-776A2EEC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91080" y="3009960"/>
            <a:ext cx="1290600" cy="1442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06720" y="3009960"/>
            <a:ext cx="1368720" cy="68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720" y="3768840"/>
            <a:ext cx="1368720" cy="68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0520" y="2270160"/>
            <a:ext cx="1290600" cy="1442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270160"/>
            <a:ext cx="1366560" cy="68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030480"/>
            <a:ext cx="1366560" cy="68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0520" y="3849840"/>
            <a:ext cx="1290600" cy="1442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849840"/>
            <a:ext cx="1366560" cy="68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608360"/>
            <a:ext cx="136656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38720" y="3440160"/>
            <a:ext cx="1366920" cy="68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04T00:14:49Z</dcterms:modified>
  <cp:revision>11</cp:revision>
  <dc:subject/>
  <dc:title>新規</dc:title>
</cp:coreProperties>
</file>